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43A2-5C5B-4A67-98C1-187FD843A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21B7-564F-4CA7-A15F-2CD6B23C2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3EF2-3D88-4FF0-8626-A696DE1D6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A824-34BA-44D9-B858-371956CC2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7F2E-9A92-485D-8952-D92D71A49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1D93-E53F-4C5D-A9A7-3F556831E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9768-7039-4825-81FD-6572567CC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79F4-B6DD-4C46-A8D6-6DD3322E1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3238-825B-421F-A445-7FC7E3913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F45C-8B3D-43EC-8CBD-1B9EE6CA4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6A95-2540-4317-93CB-629D9C391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80C7-57BD-40C9-A614-71D597706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FE66E-4A27-4E20-A279-DF3FD0EC25A6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2261160" y="5688000"/>
            <a:ext cx="455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6 lub 18.11.1860 – 29.06.19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Paderewski"/>
          <p:cNvPicPr/>
          <p:nvPr/>
        </p:nvPicPr>
        <p:blipFill>
          <a:blip r:embed="rId1"/>
          <a:stretch/>
        </p:blipFill>
        <p:spPr>
          <a:xfrm>
            <a:off x="2700360" y="620640"/>
            <a:ext cx="3672000" cy="4618080"/>
          </a:xfrm>
          <a:prstGeom prst="rect">
            <a:avLst/>
          </a:prstGeom>
          <a:ln w="0">
            <a:noFill/>
          </a:ln>
        </p:spPr>
      </p:pic>
      <p:sp>
        <p:nvSpPr>
          <p:cNvPr id="43" name="TextBox 3"/>
          <p:cNvSpPr/>
          <p:nvPr/>
        </p:nvSpPr>
        <p:spPr>
          <a:xfrm>
            <a:off x="3348000" y="6446880"/>
            <a:ext cx="33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Źródło Wikipedia.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0T16:36:41Z</dcterms:created>
  <dc:creator>IB</dc:creator>
  <dc:description/>
  <dc:language>en-US</dc:language>
  <cp:lastModifiedBy>rena</cp:lastModifiedBy>
  <dcterms:modified xsi:type="dcterms:W3CDTF">2013-03-05T18:40:57Z</dcterms:modified>
  <cp:revision>3</cp:revision>
  <dc:subject/>
  <dc:title>Slajd 1</dc:title>
</cp:coreProperties>
</file>